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31.jpeg" ContentType="image/jpeg"/>
  <Override PartName="/ppt/media/image33.jpeg" ContentType="image/jpeg"/>
  <Override PartName="/ppt/media/image6.png" ContentType="image/png"/>
  <Override PartName="/ppt/media/image21.jpeg" ContentType="image/jpeg"/>
  <Override PartName="/ppt/media/image29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BB3E-8664-457A-B5DE-F63E67F70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AE04-5946-42F6-92DF-35ECE63A6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538-3FAD-4817-8C11-0BEA7214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230-E572-42E1-B307-0AB894D4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A0D-A988-4911-9C67-399D406B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347-8F0B-4DE1-A061-660E2C2E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C0E6-0D4B-49ED-BC1C-0059D9BF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A322-E7B1-4D63-A689-06B12FB2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19B9-D979-451F-AF06-986C62B3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E5B4-803B-4FDB-BBBF-D5853867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6851-4EA7-47CE-B6EB-6B52D1AE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7DBA-7653-4F3D-9D29-C2743779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9CE6-CE33-4640-81B9-7F5DA6F5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DB6-8504-454F-8D80-FFB8C543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B49C-8913-461A-830E-79C10C6B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D288-7FBA-4DCE-A53F-B07B20F4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3DF6-0963-44FF-8A49-2214FD04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50D3-0845-432F-A2DC-0282B7F4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DC60-A7ED-454D-880B-599239F4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56A3-66F2-433F-8460-B5352D50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6355D-5898-4A18-96D1-261E0C0E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21ECC-AAE6-450B-8DD5-1C5241C0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DD2EB-8272-4C64-B7E3-92D4D14E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4A356-E7B9-4ED4-A841-A6C52626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D59-966B-4006-9CAA-FFF6ADA5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28B49-2FBB-48A5-81EC-830157A2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52F9E-C611-4DA9-8A3E-CEBFD17A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092D3-A4B5-4BD5-9D71-8151217A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CACFF-C204-4D4C-8443-FE89E38B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38CFC-9B3D-4501-BA89-87DBE873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FE82F-D4CD-458B-96F2-D3CA604F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8E5A-2B44-40DA-8A1C-5CA38F29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511A3-786B-4206-A234-D00C5738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35587-097D-4157-B607-29557BE7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BE733-FE8B-4B7E-BBB6-4E90B538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F70-6162-42FF-9A72-EF40CD6F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007FF-A07B-4AE1-BAC1-4EBFC5A5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D9306-DEAE-49F1-B0A6-968E5CBF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6DC39-4589-4B9E-854C-E20691AC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50C6A-7765-4132-9BFC-02CB30AD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1C62C-0E5C-4818-88E8-64943CE8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0BE16-A9A9-4944-8589-AC3A6A28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F6C67-84D6-4122-A491-02E260DB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518A9-D6BF-40E0-A0B1-829187E2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B590D-4359-4A41-A93A-79BA6064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219-3474-4555-B1D0-0B4D4BCF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17F-7DA3-4E33-81D5-684CDD8C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1562-3A1F-4EE7-878A-62E71F50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233-01CA-4F54-BCA8-D97F70FD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0B96-8BF7-4D22-A376-3971AA22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9012-6F23-448B-A05E-F59F734AAD4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0D31-32A4-49F9-B4C8-FAA350FCC42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D258-974C-4926-B6C4-581E9E7DC3E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57C3-C097-47DC-804B-85786783EFC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CAcQjRw&amp;url=https://online.science.psu.edu/bisc002_activeup002/node/5152&amp;ei=OKGjVfudBsn1Uq6RgoAB&amp;bvm=bv.97653015,d.bGg&amp;psig=AFQjCNFNsJD98DqHqH9an12iIf-1n2IV2w&amp;ust=143687318952635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CAcQjRw&amp;url=https%3A%2F%2Fen.wikibooks.org%2Fwiki%2FStructural_Biochemistry%2FThe_Stepwise_Process_of_How_DNA_is_Cloned_and_Inserted_into_the_Vector&amp;ei=Jp6jVY2QKcXXUZ_IhcAG&amp;bvm=bv.97653015,d.bGg&amp;psig=AFQjCNEe0yFZcddYTiXfGnrjbAW7bZoSuA&amp;ust=1436872606868425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biologyexams4u.com%2F2013%2F11%2Fgenomic-library-definition-and-steps-in.html&amp;ei=16KjVcaTBoSAU6fDpzg&amp;bvm=bv.97653015,d.bGg&amp;psig=AFQjCNE9uBVTu_ClfVSw1qCiyQkUdIa7AA&amp;ust=1436873791043182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CAcQjRw&amp;url=https%3A%2F%2Fen.wikibooks.org%2Fwiki%2FStructural_Biochemistry%2FDNA_recombinant_techniques%2FGenomic_Library&amp;ei=I6SjVc3mCcPmUouxmFA&amp;bvm=bv.97653015,d.bGg&amp;psig=AFQjCNFfeAmzmo7iK_Z19ne346jx2_p90w&amp;ust=1436873784550325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c/Cloning_diagram_english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%20http:/images.search.yahoo.com/search/images/view?back=http%3A%2F%2Fimages.search.yahoo.com%2Fsearch%2Fimages%3F_adv_prop%3Dimage%26va%3Dcloning%2Banimals%26sz%3Dall%26ei%3DUTF-8%26ni%3D20%26fr%3Dyfp-t-471%26b%3D41&amp;w=228&amp;h=349&amp;imgurl=img.dailymail.co.uk%2Fi%2Fpix%2F2007%2F07_01%2FdollyDM1007_228x349.jpg&amp;rurl=http%3A%2F%2Fwww.dailymail.co.uk%2Fpages%2Flive%2Farticles%2Ftechnology%2Ftechnology.html%3Fin_article_id%3D467510%26amp%3Bin_page_id%3D1766%26amp%3Bito%3D1490&amp;size=54.4kB&amp;name=dollyDM1007_228x349.jpg&amp;p=cloning+animals&amp;type=jpeg&amp;no=51&amp;tt=343&amp;oid=735c76f90090e79e&amp;ei=UTF-8&amp;src=p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rs/url?sa=i&amp;rct=j&amp;q=&amp;esrc=s&amp;source=images&amp;cd=&amp;cad=rja&amp;uact=8&amp;ved=0ahUKEwj80tHkwbjVAhXEB8AKHQJ-DdQQjRwIBw&amp;url=http%3A%2F%2Fwww.theecologist.org%2FNews%2Fnews_round_up%2F555115%2Fcloned_animals_a_threat_to_genetic_diversity.html&amp;psig=AFQjCNGqGSSnk43Kpx6bwrhPXRxU3iN37g&amp;ust=1501762048696105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www.google.rs/url?sa=i&amp;rct=j&amp;q=&amp;esrc=s&amp;source=images&amp;cd=&amp;ved=0ahUKEwiltcv9wrjVAhXsLsAKHRhlBbgQjRwIBw&amp;url=http%3A%2F%2Fholmanranch.com%2Fthe-fight-goes-on-between-equine-purists-and-advocates-of-cloning%2F&amp;psig=AFQjCNGqGSSnk43Kpx6bwrhPXRxU3iN37g&amp;ust=1501762048696105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britannica.com%2Fscience%2Fgel-electrophoresis&amp;ei=U6WjVfTFM4veU9DKiZgP&amp;bvm=bv.97653015,d.bGg&amp;psig=AFQjCNGU9NwMUbJTsz5iFqCNwV7Q5NsEbA&amp;ust=1436874437203667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bio-rad.com%2Fen-us%2Fapplications-technologies%2Fprotein-electrophoresis-methods&amp;ei=g6ajVe6RNIr5Uoz1gqgF&amp;bvm=bv.97653015,d.bGg&amp;psig=AFQjCNGU9NwMUbJTsz5iFqCNwV7Q5NsEbA&amp;ust=1436874437203667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biochem.arizona.edu%2Fclasses%2Fbioc471%2Fpages%2FLecture2%2FLecture2.html&amp;ei=g6-fVaCINYa9UcWzirAK&amp;bvm=bv.97653015,d.bGQ&amp;psig=AFQjCNE5gfZaGdyGSv538IjoP5NeqQL2CA&amp;ust=1436614867741306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CAcQjRw&amp;url=https%3A%2F%2Fwww.google.com%2Fpatents%2FWO2001007651A2%3Fcl%3Den&amp;ei=ErGfVd3UFYe5UafQkJAL&amp;bvm=bv.97653015,d.bGQ&amp;psig=AFQjCNFRMjNRiGJ9e9wcjXkVHrQ8TNto-Q&amp;ust=1436614841639242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gallery4share.com%2Fd%2Fdna-ligase.html&amp;ei=PbKfVYDFKsO4Uae0oZAL&amp;bvm=bv.97653015,d.bGQ&amp;psig=AFQjCNEFy6DigSVSdxkwex07DSUmAsMyhg&amp;ust=143661561011242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Arial"/>
              </a:rPr>
              <a:t>ГЕНЕТИЧКИ ИНЖЕЊЕРИНГ </a:t>
            </a:r>
            <a:br>
              <a:rPr sz="5000"/>
            </a:br>
            <a:r>
              <a:rPr b="1" lang="sr-CS" sz="4000" spc="-1" strike="noStrike">
                <a:solidFill>
                  <a:srgbClr val="dbf5f9"/>
                </a:solidFill>
                <a:latin typeface="Arial"/>
              </a:rPr>
              <a:t>– технологија рекомбинанте ДНК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4. </a:t>
            </a:r>
            <a:r>
              <a:rPr b="1" lang="sr-Latn-CS" sz="3200" spc="-1" strike="noStrike">
                <a:solidFill>
                  <a:srgbClr val="0000ff"/>
                </a:solidFill>
                <a:latin typeface="Arial"/>
              </a:rPr>
              <a:t>Ћелије за пропагирање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ff"/>
                </a:solidFill>
                <a:latin typeface="Arial"/>
              </a:rPr>
              <a:t>рДН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irc_mi" descr="https://online.science.psu.edu/sites/default/files/bisc002/bisc002_genless8_clip_image007.jpg">
            <a:hlinkClick r:id="rId1"/>
          </p:cNvPr>
          <p:cNvPicPr/>
          <p:nvPr/>
        </p:nvPicPr>
        <p:blipFill>
          <a:blip r:embed="rId2"/>
          <a:srcRect l="1536" t="4757" r="1632" b="25140"/>
          <a:stretch/>
        </p:blipFill>
        <p:spPr>
          <a:xfrm>
            <a:off x="1619280" y="2459160"/>
            <a:ext cx="5545080" cy="35622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250920" y="1341360"/>
            <a:ext cx="828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јчешће су то бактерије или еукариотске ћелије (кваса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али и ћелије анималног и хуманог порекл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50920" y="1484280"/>
            <a:ext cx="4038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лонирање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змножавањем ћел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множава 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клонира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Д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" descr="https://upload.wikimedia.org/wikibooks/en/9/95/DNAclon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549360"/>
            <a:ext cx="50036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5.Геномска библиотека </a:t>
            </a:r>
            <a:br>
              <a:rPr sz="32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екција рекомбинованих фрагмената</a:t>
            </a:r>
            <a:endParaRPr b="0" lang="en-US" sz="24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23" name="Picture 5" descr="http://lh5.ggpht.com/-M7FYQcLJlms/UoWHRQs6WtI/AAAAAAAACcQ/HSZq7801N8E/Construction%252520of%252520genomic%252520library%25255B40%25255D.png?imgmax=8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557360"/>
            <a:ext cx="6697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2803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6. </a:t>
            </a:r>
            <a:r>
              <a:rPr b="1" lang="sr-Latn-CS" sz="3200" spc="-1" strike="noStrike">
                <a:solidFill>
                  <a:srgbClr val="0000ff"/>
                </a:solidFill>
                <a:latin typeface="Arial"/>
              </a:rPr>
              <a:t>Генске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пробе/</a:t>
            </a:r>
            <a:r>
              <a:rPr b="1" lang="sr-Latn-CS" sz="3200" spc="-1" strike="noStrike">
                <a:solidFill>
                  <a:srgbClr val="0000ff"/>
                </a:solidFill>
                <a:latin typeface="Arial"/>
              </a:rPr>
              <a:t>ДНК пробе</a:t>
            </a: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/сон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с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штачке секвенце Д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хомологе циљаном гену, обележене су радиоактивно или хемиј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6" descr="https://upload.wikimedia.org/wikipedia/commons/3/3f/SCREENING_LIBRARY_CHEM114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989000"/>
            <a:ext cx="76089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имена технологије рДНК у медицини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920" y="2133360"/>
            <a:ext cx="6192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изводња проте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јагнос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5680" y="25992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1. Производња протеин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снива се на универзалности генетичког кода у живом свету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ијени протеини су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ољег квалите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изводе се у великим количинама за кратко врем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фтинији с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мају велики степен чистоћ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гу да буду побољшани разним модификација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. хромон раста, инсул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5680" y="25992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оизводња инсулина </a:t>
            </a:r>
            <a:r>
              <a:rPr b="1" i="1" lang="sr-CS" sz="3600" spc="-1" strike="noStrike">
                <a:solidFill>
                  <a:srgbClr val="000000"/>
                </a:solidFill>
                <a:latin typeface="Arial"/>
              </a:rPr>
              <a:t>у Е.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9" descr="data"/>
          <p:cNvPicPr/>
          <p:nvPr/>
        </p:nvPicPr>
        <p:blipFill>
          <a:blip r:embed="rId1"/>
          <a:srcRect l="0" t="0" r="0" b="10238"/>
          <a:stretch/>
        </p:blipFill>
        <p:spPr>
          <a:xfrm>
            <a:off x="1523880" y="1447920"/>
            <a:ext cx="6197760" cy="48006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5"/>
          <p:cNvSpPr/>
          <p:nvPr/>
        </p:nvSpPr>
        <p:spPr>
          <a:xfrm>
            <a:off x="1686600" y="1523880"/>
            <a:ext cx="2797560" cy="337320"/>
          </a:xfrm>
          <a:prstGeom prst="rect">
            <a:avLst/>
          </a:prstGeom>
          <a:solidFill>
            <a:srgbClr val="ff99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Трансвер гена за инсу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6028200" y="1447920"/>
            <a:ext cx="1840320" cy="580680"/>
          </a:xfrm>
          <a:prstGeom prst="rect">
            <a:avLst/>
          </a:prstGeom>
          <a:solidFill>
            <a:srgbClr val="ff99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Рекомбинова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плазм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1610640" y="3657600"/>
            <a:ext cx="2997000" cy="337320"/>
          </a:xfrm>
          <a:prstGeom prst="rect">
            <a:avLst/>
          </a:prstGeom>
          <a:solidFill>
            <a:srgbClr val="ff99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лонирање гена за инсу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2521800" y="4876920"/>
            <a:ext cx="1049400" cy="337320"/>
          </a:xfrm>
          <a:prstGeom prst="rect">
            <a:avLst/>
          </a:prstGeom>
          <a:solidFill>
            <a:srgbClr val="ff99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5265000" y="4724280"/>
            <a:ext cx="1049400" cy="337320"/>
          </a:xfrm>
          <a:prstGeom prst="rect">
            <a:avLst/>
          </a:prstGeom>
          <a:solidFill>
            <a:srgbClr val="ff99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2. Дијагностика 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C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и се за детекцију многих патогена, генских боле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у циљу добијања довољних количина ДНК молекула за спровођење анализ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In situ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хибридиз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о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оба (сонда) може да се користи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. проба 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цео г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проба за део г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. проба за цео хромо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. проба за део хромоз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теломере, центромер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Southern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блот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идентификацији специфичних сегмената Д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имењује се у дијагностиковању бројних боле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Рестрикционо мапира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њ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ngerprinting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ализ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FL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У случају делеције или инсерције нуклеотида, као и код супституције нуклеотида долази до померања рестрикционог места, што ће се манифестовати у измењеној дужини рестрикционог фрагмен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3. Генска терапиј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03848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сновни циљ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замена оштећеног и недостајућег гена здравим ге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сновни усло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детаљно познавање функције и експресије гена који се уводи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how-gene-therapy-works"/>
          <p:cNvPicPr/>
          <p:nvPr/>
        </p:nvPicPr>
        <p:blipFill>
          <a:blip r:embed="rId1"/>
          <a:stretch/>
        </p:blipFill>
        <p:spPr>
          <a:xfrm>
            <a:off x="3995640" y="1628640"/>
            <a:ext cx="49374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нетички инжењерин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(технологија рекомб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 Д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обухвата методе вештачког образовања нових комбинација наследног материјала. 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нетички инжењеринг доживљава 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спанз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кри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нзима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рестрикцио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е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ендонуклеа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Клонир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бијање већег броја идентичних коп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Клон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уп генетичк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дентичних гена, ћелија, једи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родни клонови 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нозиготни близанци, диференцијација крвних ћелија, бесполно размножавање једноћелијских организама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1619280" y="333360"/>
            <a:ext cx="597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Генетички инжењер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4000" y="1125000"/>
            <a:ext cx="799452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Технички пробле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ансфер гена 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рши се вирусима, липозом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би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љ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ћел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приступачније су ћелије коштане сржи и фибробласти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дукција одговарајуће експрес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0920" y="90936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Генска терапија се може укључити код пацијената оболелих од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3141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лих од хемофил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типног мијел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IDS-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рцин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лућних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Услови да се примени генска терапија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дентификован мутиран г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 окарактерисана високим морталите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ма алтернативне терап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оде за трансвер гена развиј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ршена су испитивања на животињ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2. РЕПРОДУКТИВНО КЛОНИРАЊ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848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и се у циљу стварања животиње која има исту молекулску структуру као животиња дон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ва клонирана животиња је овц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котск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997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999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ониране су бројне врсте животи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поступку клонирања преноси се генетички материјал  из нуклеуса телесне ћелије донора у јајну ћелију, а новостворена ћелија се третира и иницира њена деоб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одговарајућем стадијуму ембриогенезе  клон се ставља у утерус сурогат мај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36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ханизам репродуктивног клонирањ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53" name="Picture 5" descr="File:Cloning diagram english.svg">
            <a:hlinkClick r:id="rId1"/>
          </p:cNvPr>
          <p:cNvPicPr/>
          <p:nvPr/>
        </p:nvPicPr>
        <p:blipFill>
          <a:blip r:embed="rId2"/>
          <a:srcRect l="4576" t="0" r="12298" b="27077"/>
          <a:stretch/>
        </p:blipFill>
        <p:spPr>
          <a:xfrm>
            <a:off x="324000" y="1628640"/>
            <a:ext cx="8305560" cy="47912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7"/>
          <p:cNvSpPr/>
          <p:nvPr/>
        </p:nvSpPr>
        <p:spPr>
          <a:xfrm>
            <a:off x="684360" y="1989000"/>
            <a:ext cx="4248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Телесна ћелија чији се нуклеус в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547920" y="4941720"/>
            <a:ext cx="14122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Јајна ћел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647520" y="2421000"/>
            <a:ext cx="46918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уклеус телесне ћелије донора се ставља 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јајну ћел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1763640" y="5300640"/>
            <a:ext cx="281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уклеус се одстрањуј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6882840" y="4149720"/>
            <a:ext cx="677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л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6300720" y="5589720"/>
            <a:ext cx="22147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лон се ставља 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утерус сурогат мај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755640" y="5805360"/>
            <a:ext cx="3311640" cy="2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907920"/>
            <a:ext cx="2806560" cy="4300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Image result for cloned animals imag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358920"/>
            <a:ext cx="4262400" cy="2815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Image result for cloned animals image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35280" y="3174840"/>
            <a:ext cx="43927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0000"/>
                </a:solidFill>
                <a:latin typeface="Arial"/>
              </a:rPr>
              <a:t>3. Терапеутско клонирањ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360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еутско клонирање је вантелесно стварање ембриона у сврху истражив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 је производња ембрионалних стем (матичних) ћел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м ћелије се екстрахују из ембриона на стадујуму бластоцис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7" descr="therapeutic_and_reproductive"/>
          <p:cNvPicPr/>
          <p:nvPr/>
        </p:nvPicPr>
        <p:blipFill>
          <a:blip r:embed="rId1"/>
          <a:srcRect l="0" t="20804" r="0" b="1462"/>
          <a:stretch/>
        </p:blipFill>
        <p:spPr>
          <a:xfrm>
            <a:off x="4354560" y="981000"/>
            <a:ext cx="4178160" cy="54007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9"/>
          <p:cNvSpPr/>
          <p:nvPr/>
        </p:nvSpPr>
        <p:spPr>
          <a:xfrm>
            <a:off x="4284720" y="5661000"/>
            <a:ext cx="1800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рапеутско клонир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7236000" y="3573360"/>
            <a:ext cx="14443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Стављањ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бластоцис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у утерус мај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dbf5f9"/>
                </a:solidFill>
                <a:latin typeface="Arial"/>
              </a:rPr>
              <a:t>Методе у клонирању ДН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ипови клонирања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комбинантна ДНК (клонирање ге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родуктивно клонир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еутско клонир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402732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1. Хибридизација нуклеинских кисе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ши се између познате и циљане секвенце ДН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сто хибридизације је визуализовано светлећим сигна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7" descr="metaphase"/>
          <p:cNvPicPr/>
          <p:nvPr/>
        </p:nvPicPr>
        <p:blipFill>
          <a:blip r:embed="rId1"/>
          <a:stretch/>
        </p:blipFill>
        <p:spPr>
          <a:xfrm>
            <a:off x="4724280" y="0"/>
            <a:ext cx="3857760" cy="3454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interphase"/>
          <p:cNvPicPr/>
          <p:nvPr/>
        </p:nvPicPr>
        <p:blipFill>
          <a:blip r:embed="rId2"/>
          <a:stretch/>
        </p:blipFill>
        <p:spPr>
          <a:xfrm>
            <a:off x="4724280" y="3494160"/>
            <a:ext cx="380844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НК пробе у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у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74" name="Picture 5" descr="3Uebersicht_Proben"/>
          <p:cNvPicPr/>
          <p:nvPr/>
        </p:nvPicPr>
        <p:blipFill>
          <a:blip r:embed="rId1"/>
          <a:stretch/>
        </p:blipFill>
        <p:spPr>
          <a:xfrm>
            <a:off x="1908000" y="1484280"/>
            <a:ext cx="52102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7" descr="FISH-Fig11"/>
          <p:cNvPicPr/>
          <p:nvPr/>
        </p:nvPicPr>
        <p:blipFill>
          <a:blip r:embed="rId1"/>
          <a:stretch/>
        </p:blipFill>
        <p:spPr>
          <a:xfrm>
            <a:off x="395280" y="549360"/>
            <a:ext cx="4560840" cy="5964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Telomere FISH"/>
          <p:cNvPicPr/>
          <p:nvPr/>
        </p:nvPicPr>
        <p:blipFill>
          <a:blip r:embed="rId2"/>
          <a:stretch/>
        </p:blipFill>
        <p:spPr>
          <a:xfrm>
            <a:off x="5148360" y="333360"/>
            <a:ext cx="3354120" cy="3300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Whole Chromosome Paint (FISH)"/>
          <p:cNvPicPr/>
          <p:nvPr/>
        </p:nvPicPr>
        <p:blipFill>
          <a:blip r:embed="rId3"/>
          <a:stretch/>
        </p:blipFill>
        <p:spPr>
          <a:xfrm>
            <a:off x="4838760" y="3468600"/>
            <a:ext cx="430524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2. Електрофореза на гелу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 је раздвајање молекула из смесе на основу њихове брзине кретања у електричном пољ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е се користи агарозни ге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кон електрофорезе бендови ДНК постају видљиви на УВ свет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лектрофореза на 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агарозном гелу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хоризонтална)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81" name="Picture 6" descr="http://media-2.web.britannica.com/eb-media/72/47672-004-4E16B61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763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лектрофореза на 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полиакриламидном гел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вертикална)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83" name="Picture 2" descr="http://www.bio-rad.com/webroot/web/images/lsr/solutions/technologies/protein_electrophoresis_blotting_and_imaging/protein_electrophoresis/technology_detail/pet11_img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341360"/>
            <a:ext cx="72741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Електрофореграм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85" name="Picture 6" descr="http://midsci.org/images/lp/agarose.gif"/>
          <p:cNvPicPr/>
          <p:nvPr/>
        </p:nvPicPr>
        <p:blipFill>
          <a:blip r:embed="rId1"/>
          <a:stretch/>
        </p:blipFill>
        <p:spPr>
          <a:xfrm>
            <a:off x="1763640" y="1125360"/>
            <a:ext cx="5761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3. Блотинг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нсвер бендова са агарозног гела на најлонску мембра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сте блотинг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outhern blot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нсвер ДНК фрагмен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rthern blot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нсвер иРН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estern blot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нсвер проте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outhern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лот анализ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89" name="Picture 5" descr="http://site.motifolio.com/images/Southern-blot-6111111.png"/>
          <p:cNvPicPr/>
          <p:nvPr/>
        </p:nvPicPr>
        <p:blipFill>
          <a:blip r:embed="rId1"/>
          <a:stretch/>
        </p:blipFill>
        <p:spPr>
          <a:xfrm>
            <a:off x="611280" y="1413000"/>
            <a:ext cx="7777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outhern </a:t>
            </a: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блот анализ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highered.mcgraw-hill.com/sites/0072556781/student_view0/chapter14/animation_quiz_5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Arial"/>
              </a:rPr>
              <a:t>1.  Рекомбинантна ДНК (</a:t>
            </a:r>
            <a:r>
              <a:rPr b="1" i="1" lang="sr-CS" sz="4400" spc="-1" strike="noStrike">
                <a:solidFill>
                  <a:srgbClr val="ff0000"/>
                </a:solidFill>
                <a:latin typeface="Arial"/>
              </a:rPr>
              <a:t>клонирање гена</a:t>
            </a:r>
            <a:r>
              <a:rPr b="1" lang="sr-C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редства и метод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у клонирању ге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Ауторадиографиј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зуелизација хибридизације која је радиоактивно обелезена на радиографском филм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6" descr="http://d1o6q7s4etob7k.cloudfront.net/content/femsle/161/1/7/F1.medium.gif"/>
          <p:cNvPicPr/>
          <p:nvPr/>
        </p:nvPicPr>
        <p:blipFill>
          <a:blip r:embed="rId1"/>
          <a:stretch/>
        </p:blipFill>
        <p:spPr>
          <a:xfrm>
            <a:off x="900000" y="2421000"/>
            <a:ext cx="5975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4.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CR </a:t>
            </a:r>
            <a:r>
              <a:rPr b="1" lang="sr-Latn-CS" sz="3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ланчана реакција полимер</a:t>
            </a:r>
            <a:r>
              <a:rPr b="1" lang="sr-Latn-RS" sz="3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sr-RS" sz="3600" spc="-1" strike="noStrike">
                <a:solidFill>
                  <a:srgbClr val="0000ff"/>
                </a:solidFill>
                <a:latin typeface="Arial"/>
              </a:rPr>
              <a:t>зе</a:t>
            </a:r>
            <a:r>
              <a:rPr b="1" lang="sr-Latn-CS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продукцију велике количине ДНК из мале количине узорка (трагови крви, длака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30-4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иклу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о матрица за синтезу ДНК може да послужи 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РН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уз учешће реверзне транскрипта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RТ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лимеризација се врши на 65-75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моћу 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Таq полимеразе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ребно з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0672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арајући прајме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q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олиме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уклеоти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орак ДН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003640" y="333360"/>
            <a:ext cx="3456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зе у PCR-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Резултат слика за PCR images"/>
          <p:cNvPicPr/>
          <p:nvPr/>
        </p:nvPicPr>
        <p:blipFill>
          <a:blip r:embed="rId1"/>
          <a:stretch/>
        </p:blipFill>
        <p:spPr>
          <a:xfrm>
            <a:off x="395280" y="3860640"/>
            <a:ext cx="3097080" cy="273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Object 10"/>
          <p:cNvGraphicFramePr/>
          <p:nvPr/>
        </p:nvGraphicFramePr>
        <p:xfrm>
          <a:off x="4440240" y="836640"/>
          <a:ext cx="4452840" cy="602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0240" y="836640"/>
                    <a:ext cx="445284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http://www.paulvanouse.com/PCR-proces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3276720" y="476280"/>
            <a:ext cx="2663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R амплифик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http://biocompute.bmi.ac.cn/MPprimer/img/image009.jpg"/>
          <p:cNvPicPr/>
          <p:nvPr/>
        </p:nvPicPr>
        <p:blipFill>
          <a:blip r:embed="rId1"/>
          <a:stretch/>
        </p:blipFill>
        <p:spPr>
          <a:xfrm>
            <a:off x="324000" y="1989000"/>
            <a:ext cx="8534160" cy="42674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3"/>
          <p:cNvSpPr/>
          <p:nvPr/>
        </p:nvSpPr>
        <p:spPr>
          <a:xfrm>
            <a:off x="826920" y="692280"/>
            <a:ext cx="720108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R резул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maxanim.com/genetics/PCR/PCR.ht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редства у клонирању гена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3889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стрикцио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ндонуклеа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зе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теријс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донукле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рестрикциона мес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рестрикциони фрагмен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иве добијају пр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ктеријама из којих с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лова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http://www.biochem.arizona.edu/classes/bioc471/pages/Lecture2/AMG1.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341360"/>
            <a:ext cx="4392360" cy="518328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https://patentimages.storage.googleapis.com/WO2001007651A2/imgf000011_0001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73360"/>
            <a:ext cx="8459640" cy="4830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4"/>
          <p:cNvSpPr/>
          <p:nvPr/>
        </p:nvSpPr>
        <p:spPr>
          <a:xfrm>
            <a:off x="324000" y="404640"/>
            <a:ext cx="806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Примери рестрикционих ензима и њихових рестикционих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2.  Лигаз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50920" y="1989000"/>
            <a:ext cx="3241440" cy="38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Лигаза спаја (повезује) рестрикционе фрагменте  при чему настаје  </a:t>
            </a:r>
            <a:r>
              <a:rPr b="0" lang="sr-RS" sz="1800" spc="-1" strike="noStrike">
                <a:solidFill>
                  <a:srgbClr val="ff0000"/>
                </a:solidFill>
                <a:latin typeface="Arial"/>
              </a:rPr>
              <a:t>рекомбинантна ДН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http://cyhshonorsbio.wikispaces.com/file/view/mod1_3_dnaligatn.jpg/229673448/350x237/mod1_3_dnaligat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1628640"/>
            <a:ext cx="5219640" cy="4608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5364000" y="5516640"/>
            <a:ext cx="2232360" cy="504720"/>
          </a:xfrm>
          <a:prstGeom prst="rect">
            <a:avLst/>
          </a:prstGeom>
          <a:solidFill>
            <a:srgbClr val="fb6d7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екомбинантна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5580000" y="2205000"/>
            <a:ext cx="1800360" cy="647640"/>
          </a:xfrm>
          <a:prstGeom prst="rect">
            <a:avLst/>
          </a:prstGeom>
          <a:solidFill>
            <a:srgbClr val="fb6d7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естрикциони енз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580000" y="3860640"/>
            <a:ext cx="2160720" cy="505080"/>
          </a:xfrm>
          <a:prstGeom prst="rect">
            <a:avLst/>
          </a:prstGeom>
          <a:solidFill>
            <a:srgbClr val="fb6d7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НК фрагменте спаја ли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own Arrow 15"/>
          <p:cNvSpPr/>
          <p:nvPr/>
        </p:nvSpPr>
        <p:spPr>
          <a:xfrm flipH="1">
            <a:off x="6300720" y="4437000"/>
            <a:ext cx="216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417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ктори с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азми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ктериофаг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и РН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иру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ми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А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Плазми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- налазе с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ктеријским ћел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ју гене 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зистентнос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тибиот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42920" y="2276640"/>
            <a:ext cx="40388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Косми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вештачки вектор конструисан од делова бактериофага и плазми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YАC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вештачки хромозом квасца, може да унесе више ДНК од осталих вект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sr-Latn-CS" sz="3300" spc="-1" strike="noStrike">
                <a:solidFill>
                  <a:srgbClr val="0000ff"/>
                </a:solidFill>
                <a:latin typeface="Arial"/>
              </a:rPr>
              <a:t>Вектори</a:t>
            </a:r>
            <a:br>
              <a:rPr sz="3300"/>
            </a:br>
            <a:br>
              <a:rPr sz="9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ктори с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редства за уношење фрагмена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тране ДНК у ћел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лазмид – као вектор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15" name="Picture 5" descr="http://urei.bio.uci.edu/~hudel/bs99a/lecture28/plasmid.gif"/>
          <p:cNvPicPr/>
          <p:nvPr/>
        </p:nvPicPr>
        <p:blipFill>
          <a:blip r:embed="rId1"/>
          <a:srcRect l="2646" t="6183" r="3061" b="8792"/>
          <a:stretch/>
        </p:blipFill>
        <p:spPr>
          <a:xfrm>
            <a:off x="2050920" y="1341360"/>
            <a:ext cx="46818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Ryzen</cp:lastModifiedBy>
  <dcterms:modified xsi:type="dcterms:W3CDTF">2022-01-18T12:11:22Z</dcterms:modified>
  <cp:revision>176</cp:revision>
  <dc:subject/>
  <dc:title>MUTACIJE GENA</dc:title>
</cp:coreProperties>
</file>